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04C-594A-4C49-B160-5ADCC098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5DD-FF89-4781-8C36-5E3528F9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DF-2BCC-4FC5-BAC5-0A15A743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0B8-C146-4411-A652-0E459954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83D-8DDA-499E-A277-6AA3C91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158-DD0F-475F-92F9-81762E3D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529-D5D1-46C4-9A4D-BCDE939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C53-86ED-48DE-8321-D40A474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17B-59CB-40A9-8771-E6C7A7B9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F48-9A85-4396-B5E0-A1638E94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E7D-F95A-44A2-AD60-DA66683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36A-6773-41FD-922F-06482D4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BCB-DE19-4B23-B8CE-8A13F07F0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6320" y="63360"/>
            <a:ext cx="772956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lour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5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 rot="10800000">
            <a:off x="609480" y="51051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2956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8672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roug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f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72956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594360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jumped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he beeh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29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ees chased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6320" y="304920"/>
            <a:ext cx="772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3526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80920" y="0"/>
            <a:ext cx="82630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ro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6320" y="380880"/>
            <a:ext cx="772956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ke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ake hit the f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3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fell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29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4" marL="1645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v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 hayst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6320" y="0"/>
            <a:ext cx="7729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x fell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714680"/>
            <a:ext cx="77295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st the mi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m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72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55:04Z</dcterms:created>
  <dc:creator>Paul Casson</dc:creator>
  <dc:description/>
  <dc:language>en-US</dc:language>
  <cp:lastModifiedBy>Cynthia</cp:lastModifiedBy>
  <dcterms:modified xsi:type="dcterms:W3CDTF">2010-09-05T20:35:21Z</dcterms:modified>
  <cp:revision>2</cp:revision>
  <dc:subject/>
  <dc:title>PowerPoint Presentation</dc:title>
</cp:coreProperties>
</file>